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468-EB51-4217-88B7-C012D4D5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7CD-FFD4-4896-B70F-59C36149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61B-C545-4AD2-8E0A-6813FEFE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AE5-B300-45BA-A089-BCE148EA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038A-41C8-4DD5-9178-E9D4C472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B2B9-8A79-4C7B-946B-ABCED266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24A1-6B81-4F03-8241-461C8108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1FE2-2012-424A-AA36-48DA1945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77AE-0708-4A9F-8C36-321ACF63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888F-F662-43D9-AA38-93C8A9DE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5C47-F496-447B-80D2-58DCAC9D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FC1-20FA-4EF6-9E2A-3441203F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4FAB-3DFC-4EDA-942C-0DB833E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B459-CBC1-4BAE-802A-629F45D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FBC4-D9F1-48F0-80B5-BEACD5A0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7E53-CF23-42F5-BB9F-4B7D7375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360F-B569-4417-800E-848E2A14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0441-1627-4D1D-86A1-1F11E7C5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CD8C1-13DE-4841-8801-EE0F6F18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E3E4-5C4F-4EC2-879F-3BE59B2E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7F2C0-B2E9-4E62-B5AE-44F9A94A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56B3-653D-4CC5-A6B7-0B7D39D6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009-D7A6-436B-9247-EEC20756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14AB-CE74-4A61-802E-ABBB54D8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79A7-DF50-4719-8BBD-2304B27F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5082-875A-4F39-B91E-D76DAF86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39AF-C60B-4FE5-8C34-1E5EC916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0C2E-A6FB-4781-B4A5-38194A70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E006-F4BB-4157-B1AA-06999107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47CD-47CD-4CE9-AEA8-BCA707C3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E8F17-3868-43DE-980D-330FACC3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26AD6-C251-4EB1-92F9-953F4DFA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3D0C7-D182-4A77-AFCA-6A5F51CA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C92-E4BA-4D74-B141-9EFCF163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A4D57-2BFF-4581-92DD-4B48BF3F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ECDA-839D-447A-8200-FC57AAA6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38105-2775-4130-B805-8B8E0EFF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F000-F686-4D68-954C-CA0B5EF9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1868-7610-43AC-91D6-943190CB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8522-0B72-4C4F-BCAA-2EAFDABC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B1BBA-7E71-4B56-82E0-55EDD4D1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1DBE-010F-4D9B-820B-4AC182CA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A96DF-534B-4986-9773-BEE87361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DB2A9-EE33-4AC5-AD50-EA26A12F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882-B5AE-4ADF-A27E-9F8F1200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899A9-A709-4F52-AD32-A627CBA6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7979F-2E9C-4F1A-A99B-CFB03B3E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3D055-28E4-4984-9958-85E49211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3E0E3-F35A-4811-B85C-F3DCB27E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47AB9-13E5-47BA-826F-F5E8C564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CAC34-1B65-4431-813E-231386A7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7A0DD-7803-45DC-85C3-18376568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411F6-15B2-428D-BCF9-0509BE61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F7448-C909-4B06-8DFF-5326D855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D5D2B-6092-4FB6-8E1D-7677DBDD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E38-7356-43E9-B721-5D9C15F8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70C10-AE44-4D4E-9C5F-87E72821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A402E-6DBA-4C67-A9AD-F34B2CF2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0B70-A0EB-4B45-88C3-DFA5CEC4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E1600-FDED-428F-AE08-4F847BE0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F78CF-112A-4C18-A437-BD9DB422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55B05-FA9F-4ECA-9DC1-E2A19FF8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4B9F0-5958-4B4B-91E1-842BF0C9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256F-1BB0-47AA-902C-86E4C329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CB53A-C1F3-4FB2-AA17-5141C0E9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6D13C-DEB3-4EC7-B8F5-25F44529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DB3-B215-484B-BE03-53D22A70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6861A-875B-462C-AA94-45F116C4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5EE4B-1D23-42C2-B804-857B8C76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30568-BDDB-4E30-B9AE-7DD33E70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D9C-FBE1-4693-BF48-D9E617A0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943-64D9-4B15-A2BE-EB8FAE89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FBE0-F5C9-4B3A-953E-30895AA978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0C3C-69E1-46CF-8ED3-E4FC772C4E3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22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3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25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27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28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29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3199-665C-4213-9893-866A10FFED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215" name="Group 3"/>
            <p:cNvGrpSpPr/>
            <p:nvPr/>
          </p:nvGrpSpPr>
          <p:grpSpPr>
            <a:xfrm>
              <a:off x="5409720" y="61560"/>
              <a:ext cx="3620880" cy="6130800"/>
              <a:chOff x="5409720" y="61560"/>
              <a:chExt cx="3620880" cy="6130800"/>
            </a:xfrm>
          </p:grpSpPr>
          <p:sp>
            <p:nvSpPr>
              <p:cNvPr id="21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7" name="Freeform 5"/>
              <p:cNvSpPr/>
              <p:nvPr/>
            </p:nvSpPr>
            <p:spPr>
              <a:xfrm flipV="1" rot="11970000">
                <a:off x="7422120" y="1959840"/>
                <a:ext cx="90576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8" name="Freeform 6"/>
              <p:cNvSpPr/>
              <p:nvPr/>
            </p:nvSpPr>
            <p:spPr>
              <a:xfrm flipV="1" rot="11970000">
                <a:off x="682740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0" name="Freeform 8"/>
              <p:cNvSpPr/>
              <p:nvPr/>
            </p:nvSpPr>
            <p:spPr>
              <a:xfrm flipV="1" rot="11970000">
                <a:off x="715572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2" name="Freeform 10"/>
              <p:cNvSpPr/>
              <p:nvPr/>
            </p:nvSpPr>
            <p:spPr>
              <a:xfrm flipV="1" rot="11970000">
                <a:off x="59403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2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4" name="Freeform 12"/>
            <p:cNvSpPr/>
            <p:nvPr/>
          </p:nvSpPr>
          <p:spPr>
            <a:xfrm>
              <a:off x="266400" y="2000160"/>
              <a:ext cx="199764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5" name="Freeform 13"/>
            <p:cNvSpPr/>
            <p:nvPr/>
          </p:nvSpPr>
          <p:spPr>
            <a:xfrm>
              <a:off x="0" y="4143240"/>
              <a:ext cx="127080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8" name="Freeform 16"/>
            <p:cNvSpPr/>
            <p:nvPr/>
          </p:nvSpPr>
          <p:spPr>
            <a:xfrm>
              <a:off x="1888560" y="5195880"/>
              <a:ext cx="175824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2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23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33" name="Group 21"/>
            <p:cNvGrpSpPr/>
            <p:nvPr/>
          </p:nvGrpSpPr>
          <p:grpSpPr>
            <a:xfrm>
              <a:off x="5651280" y="294840"/>
              <a:ext cx="891360" cy="829440"/>
              <a:chOff x="5651280" y="294840"/>
              <a:chExt cx="891360" cy="829440"/>
            </a:xfrm>
          </p:grpSpPr>
          <p:sp>
            <p:nvSpPr>
              <p:cNvPr id="234" name="Freeform 22"/>
              <p:cNvSpPr/>
              <p:nvPr/>
            </p:nvSpPr>
            <p:spPr>
              <a:xfrm rot="14908200">
                <a:off x="576288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5" name="Freeform 23"/>
              <p:cNvSpPr/>
              <p:nvPr/>
            </p:nvSpPr>
            <p:spPr>
              <a:xfrm rot="14908200">
                <a:off x="571176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6" name="Freeform 24"/>
              <p:cNvSpPr/>
              <p:nvPr/>
            </p:nvSpPr>
            <p:spPr>
              <a:xfrm rot="14908200">
                <a:off x="625320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37" name="Group 25"/>
            <p:cNvGrpSpPr/>
            <p:nvPr/>
          </p:nvGrpSpPr>
          <p:grpSpPr>
            <a:xfrm>
              <a:off x="970200" y="5261400"/>
              <a:ext cx="1059120" cy="829800"/>
              <a:chOff x="970200" y="5261400"/>
              <a:chExt cx="1059120" cy="829800"/>
            </a:xfrm>
          </p:grpSpPr>
          <p:sp>
            <p:nvSpPr>
              <p:cNvPr id="238" name="Freeform 26"/>
              <p:cNvSpPr/>
              <p:nvPr/>
            </p:nvSpPr>
            <p:spPr>
              <a:xfrm rot="8524800">
                <a:off x="171252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9" name="Freeform 27"/>
              <p:cNvSpPr/>
              <p:nvPr/>
            </p:nvSpPr>
            <p:spPr>
              <a:xfrm rot="8524800">
                <a:off x="119448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0" name="Freeform 28"/>
              <p:cNvSpPr/>
              <p:nvPr/>
            </p:nvSpPr>
            <p:spPr>
              <a:xfrm rot="8524800">
                <a:off x="96156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41" name="Group 29"/>
            <p:cNvGrpSpPr/>
            <p:nvPr/>
          </p:nvGrpSpPr>
          <p:grpSpPr>
            <a:xfrm>
              <a:off x="375480" y="446760"/>
              <a:ext cx="1689840" cy="1146600"/>
              <a:chOff x="375480" y="446760"/>
              <a:chExt cx="1689840" cy="1146600"/>
            </a:xfrm>
          </p:grpSpPr>
          <p:sp>
            <p:nvSpPr>
              <p:cNvPr id="242" name="Freeform 30"/>
              <p:cNvSpPr/>
              <p:nvPr/>
            </p:nvSpPr>
            <p:spPr>
              <a:xfrm flipH="1" rot="4107000">
                <a:off x="1575000" y="1065240"/>
                <a:ext cx="35532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3" name="Freeform 31"/>
              <p:cNvSpPr/>
              <p:nvPr/>
            </p:nvSpPr>
            <p:spPr>
              <a:xfrm flipH="1" rot="4107000">
                <a:off x="1022040" y="5904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4" name="Freeform 32"/>
              <p:cNvSpPr/>
              <p:nvPr/>
            </p:nvSpPr>
            <p:spPr>
              <a:xfrm flipH="1" rot="4107000">
                <a:off x="278280" y="110376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45" name="Group 33"/>
            <p:cNvGrpSpPr/>
            <p:nvPr/>
          </p:nvGrpSpPr>
          <p:grpSpPr>
            <a:xfrm>
              <a:off x="7381080" y="3712320"/>
              <a:ext cx="1155600" cy="1607760"/>
              <a:chOff x="7381080" y="3712320"/>
              <a:chExt cx="1155600" cy="1607760"/>
            </a:xfrm>
          </p:grpSpPr>
          <p:sp>
            <p:nvSpPr>
              <p:cNvPr id="246" name="Freeform 34"/>
              <p:cNvSpPr/>
              <p:nvPr/>
            </p:nvSpPr>
            <p:spPr>
              <a:xfrm flipH="1" rot="10015800">
                <a:off x="74358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7" name="Freeform 35"/>
              <p:cNvSpPr/>
              <p:nvPr/>
            </p:nvSpPr>
            <p:spPr>
              <a:xfrm flipH="1" rot="10015800">
                <a:off x="788652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8" name="Freeform 36"/>
              <p:cNvSpPr/>
              <p:nvPr/>
            </p:nvSpPr>
            <p:spPr>
              <a:xfrm flipH="1" rot="10015800">
                <a:off x="757908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49" name="Freeform 37"/>
            <p:cNvSpPr/>
            <p:nvPr/>
          </p:nvSpPr>
          <p:spPr>
            <a:xfrm>
              <a:off x="1931400" y="3240"/>
              <a:ext cx="136764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3" name="Freeform 41"/>
            <p:cNvSpPr/>
            <p:nvPr/>
          </p:nvSpPr>
          <p:spPr>
            <a:xfrm>
              <a:off x="254376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72EB-B804-4039-AEAB-6D4CD7C9D8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9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0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30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0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1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1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1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31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F37C-12C3-48E1-A544-01F6E9EBDD8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536D-1A63-4C20-A92E-35A8157ABB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68360" y="234900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 всякое дело берись умел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WordArt 4"/>
          <p:cNvSpPr txBox="1"/>
          <p:nvPr/>
        </p:nvSpPr>
        <p:spPr>
          <a:xfrm>
            <a:off x="2124000" y="981000"/>
            <a:ext cx="6624720" cy="55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pic>
        <p:nvPicPr>
          <p:cNvPr id="405" name="Picture 5" descr="AN00790_"/>
          <p:cNvPicPr/>
          <p:nvPr/>
        </p:nvPicPr>
        <p:blipFill>
          <a:blip r:embed="rId1"/>
          <a:stretch/>
        </p:blipFill>
        <p:spPr>
          <a:xfrm>
            <a:off x="179280" y="765000"/>
            <a:ext cx="1865520" cy="19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3534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WordArt 4"/>
          <p:cNvSpPr txBox="1"/>
          <p:nvPr/>
        </p:nvSpPr>
        <p:spPr>
          <a:xfrm>
            <a:off x="2124000" y="981000"/>
            <a:ext cx="6624720" cy="55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аречие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pic>
        <p:nvPicPr>
          <p:cNvPr id="408" name="Picture 5" descr="AN00790_"/>
          <p:cNvPicPr/>
          <p:nvPr/>
        </p:nvPicPr>
        <p:blipFill>
          <a:blip r:embed="rId1"/>
          <a:stretch/>
        </p:blipFill>
        <p:spPr>
          <a:xfrm>
            <a:off x="324000" y="476280"/>
            <a:ext cx="1223640" cy="127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"/>
          <p:cNvGraphicFramePr/>
          <p:nvPr/>
        </p:nvGraphicFramePr>
        <p:xfrm>
          <a:off x="539640" y="1700280"/>
          <a:ext cx="8353440" cy="417672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29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знае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учимс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70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на какие вопросы отвечает наречие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задавать вопросы к наречи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70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что обозначает наречие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определять, что обозначает наречие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70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как изменяется наречие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70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какая часть речи называется наречием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давать определение наречию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06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чем является в предложени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определять каким членом предложения является наречие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13840" y="115560"/>
            <a:ext cx="8929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+наречие         признак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сущ.+наречие          призна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м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речие+имя прил.         призна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зна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5" descr="AN00790_"/>
          <p:cNvPicPr/>
          <p:nvPr/>
        </p:nvPicPr>
        <p:blipFill>
          <a:blip r:embed="rId1"/>
          <a:stretch/>
        </p:blipFill>
        <p:spPr>
          <a:xfrm>
            <a:off x="331920" y="189000"/>
            <a:ext cx="1576080" cy="1655640"/>
          </a:xfrm>
          <a:prstGeom prst="rect">
            <a:avLst/>
          </a:prstGeom>
          <a:ln w="0">
            <a:noFill/>
          </a:ln>
        </p:spPr>
      </p:pic>
      <p:sp>
        <p:nvSpPr>
          <p:cNvPr id="412" name="Стрелка вправо 6"/>
          <p:cNvSpPr/>
          <p:nvPr/>
        </p:nvSpPr>
        <p:spPr>
          <a:xfrm>
            <a:off x="3492360" y="2708280"/>
            <a:ext cx="935280" cy="9036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Стрелка вправо 7"/>
          <p:cNvSpPr/>
          <p:nvPr/>
        </p:nvSpPr>
        <p:spPr>
          <a:xfrm>
            <a:off x="3959280" y="3716280"/>
            <a:ext cx="936720" cy="90720"/>
          </a:xfrm>
          <a:prstGeom prst="rightArrow">
            <a:avLst>
              <a:gd name="adj1" fmla="val 50000"/>
              <a:gd name="adj2" fmla="val 49858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Стрелка вправо 8"/>
          <p:cNvSpPr/>
          <p:nvPr/>
        </p:nvSpPr>
        <p:spPr>
          <a:xfrm>
            <a:off x="4071960" y="4714920"/>
            <a:ext cx="936720" cy="9036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11280" y="59328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речие – неизменяемая часть речи, которая обозначает признак действия, отвечает на вопросы как? когда? где?.. и в предложении является обстоятельств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287280" y="1484280"/>
            <a:ext cx="8856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«Наречие – особая часть речи: трудная и интересная, а ещё она живописует глагол»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А.С. Пушкин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7" name="Picture 7" descr="HH00546_"/>
          <p:cNvPicPr/>
          <p:nvPr/>
        </p:nvPicPr>
        <p:blipFill>
          <a:blip r:embed="rId1"/>
          <a:stretch/>
        </p:blipFill>
        <p:spPr>
          <a:xfrm>
            <a:off x="7524720" y="189000"/>
            <a:ext cx="1338120" cy="1368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J0195320"/>
          <p:cNvPicPr/>
          <p:nvPr/>
        </p:nvPicPr>
        <p:blipFill>
          <a:blip r:embed="rId2"/>
          <a:stretch/>
        </p:blipFill>
        <p:spPr>
          <a:xfrm>
            <a:off x="395280" y="4653000"/>
            <a:ext cx="2232000" cy="1604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9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инквейн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1.Тема или предмет (одно существительно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2.Описание предмета (два прилагательных или причаст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3.Характеристика действия предмета (три глагола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4.Фраза, выражающая отношение автора к теме (четыре значимых слова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5.Синоним, обобщающий или расширяющий смысл темы (одно слово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79280" y="2060640"/>
            <a:ext cx="8785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 – упр.200 с.11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упр.201 с.11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 – сочинить стихотворение о весне используя нареч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WordArt 4"/>
          <p:cNvSpPr txBox="1"/>
          <p:nvPr/>
        </p:nvSpPr>
        <p:spPr>
          <a:xfrm>
            <a:off x="971640" y="549360"/>
            <a:ext cx="63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Times New Roman"/>
              </a:rPr>
              <a:t>Домашнее задан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3:55:17Z</dcterms:created>
  <dc:creator>Uzer</dc:creator>
  <dc:description/>
  <dc:language>en-US</dc:language>
  <cp:lastModifiedBy>Гульсина Назифовна</cp:lastModifiedBy>
  <dcterms:modified xsi:type="dcterms:W3CDTF">2016-04-27T07:29:29Z</dcterms:modified>
  <cp:revision>20</cp:revision>
  <dc:subject/>
  <dc:title>Слайд 1</dc:title>
</cp:coreProperties>
</file>